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44.png" ContentType="image/png"/>
  <Override PartName="/ppt/media/image40.jpeg" ContentType="image/jpeg"/>
  <Override PartName="/ppt/media/image38.jpeg" ContentType="image/jpeg"/>
  <Override PartName="/ppt/media/image9.png" ContentType="image/png"/>
  <Override PartName="/ppt/media/image57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54.jpeg" ContentType="image/jpeg"/>
  <Override PartName="/ppt/media/image13.png" ContentType="image/png"/>
  <Override PartName="/ppt/media/image36.jpeg" ContentType="image/jpeg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596-DDFD-4D00-8338-46C19082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591-3A2A-4B57-A6DB-3A266B8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55B-71D5-429B-9D01-3CDED81C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F33-91F6-49AC-AA99-94F2E15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EDB0-E19F-4AC9-822C-442F93BE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E75-D452-4EF2-B08F-48EB1454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1A60-DBE2-4348-B263-21CD557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FD3C-AE3A-44A7-A5B4-DEFE9199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BFE-7FBB-4AE4-B9FC-2CCF96C3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11A0-6FA8-4081-B2C3-382A712E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2B1-64AB-4911-AAF9-98ACE7D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C11-1CBE-45D3-AA50-8BFC2AB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7BCE-B2EC-4EA8-8381-594B049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743F-3718-4B21-9680-01ED38B9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1034-0A22-4D5D-925C-B353A68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1EE-4E39-4BCC-9974-28DA57F1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A7C-F713-4216-87F2-FE03DE1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125D-0385-4003-A2A6-FA82788E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5D28-67CF-4260-BE7C-40F9BAB5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EA78-E556-442E-B75E-3C879AC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2853-10F6-46E0-81FC-7BE894A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B153-395B-4BA6-9F89-6CE04960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550-A410-409A-B7B3-02D5CFFC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B495-142B-4C84-9E1B-35FAF5C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B6A0-BCC6-4720-BC58-C3CD7E7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7510-50EE-43B6-B067-5EAE2C3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E451-309A-422C-B95E-105CC30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92D0-E317-44F8-A866-3BAB7742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599F-FB98-49A6-A992-DAFB0FD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67C5-61E3-4A77-AF6A-2C746775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17F2-6FD1-4271-8B59-F43F3D27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603F-FE4F-4BA4-862F-4D04D06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1F2F-ABBC-456C-986A-4DA6A993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450-9ECF-4556-8D5E-7F49249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E3BF-3F7F-45BC-B421-E6B54BD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ABB4-5B1C-4F63-B06B-23310AB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088F-2BD6-4DCE-902F-0141BC1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5627-79BC-433F-BB40-FE91B9B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4853-8DF2-46DE-B17B-FC0DA83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091C-45CD-4F60-B9CE-E86FD2F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C009-506B-41CD-97F8-9839E9A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A8B9-BC7E-4CBE-81F9-0741C695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5BAE-B5EA-4DE1-AE4B-6DD04016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8BBA-9296-414B-A64D-395CED71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3CA-6DC8-4221-BCB6-879C263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D9D0-8127-468A-BA82-72DA7C94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F2CA-E005-42DA-92E0-7D968ED4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422D9-4EBA-40D3-A5BA-1C114A7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0051-1ED5-4B15-AABD-9D04D2F1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DF19F-A871-4ADD-9308-46B03D9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580A-0FF3-4D4C-835F-16B94C1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2252-E8D2-4440-83E8-A3CCCC5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F2FE-7AA6-4F7E-AF43-26EDF94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134B-781A-4DC4-9109-639F4A88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8DA4-717E-4019-B444-BF9A1146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536-1FDB-4FBE-BFE6-559AC1A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9C09-429C-4E3F-8837-679C7B3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A3E-0743-4BE1-88D3-040A425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76A-58AD-4987-BA4C-6293F01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0CB-A828-436B-888F-3648C47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81A-1443-4033-9819-E99A1CAF4899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D75-3A8D-46F3-A94F-DCEB70BCE476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3536-1802-400B-9D6B-2E713444F8EE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580-4E51-4AFE-BE9A-029531E01EE7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2463-A59F-4F0B-AD03-BC0226860671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Гальванические 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Admin</cp:lastModifiedBy>
  <dcterms:modified xsi:type="dcterms:W3CDTF">2012-12-19T10:44:09Z</dcterms:modified>
  <cp:revision>112</cp:revision>
  <dc:subject>Электрический ток. Источники электрического тока.8 кл.</dc:subject>
  <dc:title>Источники тока.</dc:title>
</cp:coreProperties>
</file>